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1ECD-BE66-47AF-8BC3-64974336F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2D74-80DB-407F-A9F1-CF7328FD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6DD8-A9F6-4872-9B42-A8F1E07CE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A332-52D8-417C-A372-0D4E14387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B92B-C146-4890-858C-DE167867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978D-CB6D-4E82-B14C-00ECFA31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EF4E-0EDD-45B4-A823-61EC8A03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567C-FE99-489C-8F15-C075DD81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CB4E-D8FF-4474-876B-F97B9620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7479-73E6-461B-9A91-9ADFC904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0F87-DAAC-4A20-8BDA-108F10C7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7976-BA9C-498E-8068-71F9DB1B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729C-917C-4185-9298-15125225C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" Target="slide15.xml"/><Relationship Id="rId10" Type="http://schemas.openxmlformats.org/officeDocument/2006/relationships/slide" Target="slide17.xml"/><Relationship Id="rId11" Type="http://schemas.openxmlformats.org/officeDocument/2006/relationships/image" Target="../media/image2.png"/><Relationship Id="rId12" Type="http://schemas.openxmlformats.org/officeDocument/2006/relationships/image" Target="../media/image3.jpeg"/><Relationship Id="rId13" Type="http://schemas.openxmlformats.org/officeDocument/2006/relationships/image" Target="../media/image4.jpeg"/><Relationship Id="rId14" Type="http://schemas.openxmlformats.org/officeDocument/2006/relationships/image" Target="../media/image5.jpe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9640" y="333360"/>
            <a:ext cx="84121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400ed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ТЕМАТИКА И ПРАВИЛЬНОЕ ПИТА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9400ed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5472000" cy="42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5280" y="404640"/>
            <a:ext cx="51721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400ed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х, эта картошка! 15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9400ed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0" t="0" r="0" b="19514"/>
          <a:stretch/>
        </p:blipFill>
        <p:spPr>
          <a:xfrm>
            <a:off x="7093080" y="4508640"/>
            <a:ext cx="1803240" cy="1944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24000" y="4365720"/>
            <a:ext cx="59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100 г картофеля содержится 20 мг витамина С. При варке в неочищенном виде картофель теряет 25% витамина С. Сколько витамина С теряется в 1кг неочищенного картофел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692360" y="1341360"/>
            <a:ext cx="420048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835280" y="404640"/>
            <a:ext cx="51721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400ed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х, эта картошка! 20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9400ed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0" t="0" r="0" b="19514"/>
          <a:stretch/>
        </p:blipFill>
        <p:spPr>
          <a:xfrm>
            <a:off x="7093080" y="4581360"/>
            <a:ext cx="1803240" cy="1944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978200" y="1473120"/>
            <a:ext cx="3319200" cy="2530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50920" y="5013360"/>
            <a:ext cx="60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100 г картофеля содержится 20 мг витамина С. При варке в очищенном виде картофель теряет 35% витамина С. Сколько витамина С теряется в 1 кг очищенного картофел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835280" y="404640"/>
            <a:ext cx="51721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400ed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товим вместе 10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9400ed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0" t="0" r="0" b="19514"/>
          <a:stretch/>
        </p:blipFill>
        <p:spPr>
          <a:xfrm>
            <a:off x="7093080" y="4581360"/>
            <a:ext cx="1803240" cy="1944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3274920" cy="3311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95280" y="522936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 злаковую лепёшку тремя прямолинейными отрезками разделить на 5 не равных част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835280" y="404640"/>
            <a:ext cx="51721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400ed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товим вместе 15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9400ed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484360" y="1268280"/>
            <a:ext cx="4037040" cy="3027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50920" y="4797360"/>
            <a:ext cx="856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ры – враг №1, считают многие. Но полный отказ от жиров – это ошибка. Жиры участвуют в построении клетки. Без жиров просто-напросто не усваиваются витамины А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Е, К. Хотя жиры могут образовываться из белка и углеводов, незаменимые жирные кислоты попадают в организм только с пищ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835280" y="404640"/>
            <a:ext cx="51721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400ed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товим вместе 15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9400ed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0" t="0" r="0" b="19514"/>
          <a:stretch/>
        </p:blipFill>
        <p:spPr>
          <a:xfrm>
            <a:off x="7093080" y="4581360"/>
            <a:ext cx="1803240" cy="1944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835280" y="1268280"/>
            <a:ext cx="3171600" cy="3171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8360" y="494172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 3 л молока получается 450 г сливок, сколько надо взять молока, чтобы получилось 750 г сливо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835280" y="404640"/>
            <a:ext cx="51721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400ed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товим вместе 20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9400ed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79640" y="1052640"/>
            <a:ext cx="4896000" cy="3671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11280" y="530064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ним из вкусных и полезных блюд является винегрет. Этот салат содержит целый «ансамбль» витаминов. Нам предстоит вычислить рецепт винегр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835280" y="404640"/>
            <a:ext cx="51721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400ed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товим вместе 20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9400ed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9514"/>
          <a:stretch/>
        </p:blipFill>
        <p:spPr>
          <a:xfrm>
            <a:off x="7093080" y="4581360"/>
            <a:ext cx="1803240" cy="1944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403280" y="1268280"/>
            <a:ext cx="4248360" cy="3186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50920" y="4941720"/>
            <a:ext cx="63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того, чтобы приготовить 480 г необходимо по 25% свёклы и картофеля, по 12,5% квашеной капусты и маринованных огурцов, 5% лука и остальное – моркови. Составьте рецепт винегрета массой 4800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00720" y="1628640"/>
            <a:ext cx="4313160" cy="32324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79280" y="1700280"/>
            <a:ext cx="4032360" cy="3152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1835280" y="404640"/>
            <a:ext cx="51721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400ed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мпьютерный практикум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9400ed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515772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 заданного набора блюд составьте меню своего обеда в школьной стол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908000" y="5877000"/>
            <a:ext cx="444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400ed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ятного аппетита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9400ed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08000" y="1413000"/>
          <a:ext cx="8136000" cy="4752360"/>
        </p:xfrm>
        <a:graphic>
          <a:graphicData uri="http://schemas.openxmlformats.org/drawingml/2006/table">
            <a:tbl>
              <a:tblPr/>
              <a:tblGrid>
                <a:gridCol w="2160360"/>
                <a:gridCol w="3816360"/>
                <a:gridCol w="648000"/>
                <a:gridCol w="647640"/>
                <a:gridCol w="863640"/>
              </a:tblGrid>
              <a:tr h="15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тамины вокруг на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х, эта картошка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товим вмес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 txBox="1"/>
          <p:nvPr/>
        </p:nvSpPr>
        <p:spPr>
          <a:xfrm>
            <a:off x="2916360" y="333360"/>
            <a:ext cx="3024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400ed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ВОЯ ИГР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9400ed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5" name="" descr="">
            <a:hlinkClick r:id="rId10" action="ppaction://hlinksldjump"/>
          </p:cNvPr>
          <p:cNvPicPr/>
          <p:nvPr/>
        </p:nvPicPr>
        <p:blipFill>
          <a:blip r:embed="rId11"/>
          <a:srcRect l="0" t="0" r="0" b="19514"/>
          <a:stretch/>
        </p:blipFill>
        <p:spPr>
          <a:xfrm>
            <a:off x="7885080" y="115920"/>
            <a:ext cx="1003320" cy="1081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12"/>
          <a:stretch/>
        </p:blipFill>
        <p:spPr>
          <a:xfrm>
            <a:off x="539640" y="1484280"/>
            <a:ext cx="1295640" cy="1263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13"/>
          <a:stretch/>
        </p:blipFill>
        <p:spPr>
          <a:xfrm>
            <a:off x="179280" y="3068640"/>
            <a:ext cx="1871640" cy="1405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14"/>
          <a:stretch/>
        </p:blipFill>
        <p:spPr>
          <a:xfrm>
            <a:off x="179280" y="4581360"/>
            <a:ext cx="2051280" cy="14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5300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тамины – жизненно необходимые вещества. Они нормализуют обмен веществ, способствуют лучшему усвоению пищевых веществ. Недостаток витаминов вызывает сначала недомогание, а затем различные заболевания. Богат витаминами арбуз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08000" y="1197000"/>
            <a:ext cx="5329440" cy="3651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692360" y="260280"/>
            <a:ext cx="531504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400ed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тамины вокруг нас 10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9400ed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95280" y="486900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лиц-вопрос: арбуз стоит 17 рублей и ещё пол арбуза. Сколько стоит арбуз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35280" y="1125360"/>
            <a:ext cx="5324400" cy="3557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2" action="ppaction://hlinksldjump"/>
          </p:cNvPr>
          <p:cNvPicPr/>
          <p:nvPr/>
        </p:nvPicPr>
        <p:blipFill>
          <a:blip r:embed="rId3"/>
          <a:srcRect l="0" t="0" r="0" b="19514"/>
          <a:stretch/>
        </p:blipFill>
        <p:spPr>
          <a:xfrm>
            <a:off x="6948360" y="4653000"/>
            <a:ext cx="1803600" cy="1944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1835280" y="404640"/>
            <a:ext cx="51721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400ed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тамины вокруг нас 10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9400ed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68360" y="486900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тамин А участвует в механизме светового зрения, процессе регенерации кожи, формирования иммунитета – защиты организма от болезней. Недостаток витамина А вызывает поражение глаз, светобоязнь, ночную слепоту, сухость и пигментацию кожи, тусклость волос, повышенную восприимчивость к простудным заболеваниям. Одним из продуктов, богатым витамином А, является морков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68360" y="907920"/>
            <a:ext cx="3981600" cy="3981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1835280" y="404640"/>
            <a:ext cx="51721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400ed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тамины вокруг нас 15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9400ed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08360" y="1197000"/>
            <a:ext cx="50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100 г моркови содержится 20% витамина А. В день нужно съедать 8 % витамина А. Сколько грамм моркови нужно съедать в ден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3314880" cy="4327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rcRect l="0" t="0" r="0" b="19514"/>
          <a:stretch/>
        </p:blipFill>
        <p:spPr>
          <a:xfrm>
            <a:off x="6948360" y="4653000"/>
            <a:ext cx="1803600" cy="1944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3132000" y="333360"/>
            <a:ext cx="5172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400ed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тамины вокруг нас 15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9400ed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835280" y="404640"/>
            <a:ext cx="51721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400ed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тамины вокруг нас 20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9400ed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429264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тамин С аскорбиновая кислота. Недостаток витамина С вызывает кровоточение дёсен, расшатывание зубов, бледность и сухость кожи. Витамина С много в капусте, причём в квашеной капусте его больше, чем в свежей. Квасить капусту первыми научились римляне. Они же научили этому других европейцев. Из квашеной капусты делают замечательный вкусный и сытный салат, добавляю её в «зимние» первые блюда, тушат её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050920" y="1052640"/>
            <a:ext cx="4681800" cy="31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0" b="19514"/>
          <a:stretch/>
        </p:blipFill>
        <p:spPr>
          <a:xfrm>
            <a:off x="6948360" y="4653000"/>
            <a:ext cx="1803600" cy="1944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1835280" y="404640"/>
            <a:ext cx="51721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400ed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тамины вокруг нас 20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9400ed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76360" y="501336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пуста при засолке теряет 20% своего веса. Достаточно ли купить 14 кг свежей капусты, чтобы квашеной капусты получилось 12 кг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258920" y="1197000"/>
            <a:ext cx="597708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835280" y="404640"/>
            <a:ext cx="51721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400ed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х, эта картошка! 10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9400ed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1280" y="3860640"/>
            <a:ext cx="388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разите проценты в обыкновенной дроби и покажите ответ на картошке: 75% картошины, 80% картошины, 40% картош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0" t="0" r="0" b="19514"/>
          <a:stretch/>
        </p:blipFill>
        <p:spPr>
          <a:xfrm>
            <a:off x="6732720" y="3933720"/>
            <a:ext cx="1803240" cy="1944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619280" y="907920"/>
            <a:ext cx="478008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16:54:45Z</dcterms:created>
  <dc:creator>Пользователь Windows</dc:creator>
  <dc:description/>
  <dc:language>en-US</dc:language>
  <cp:lastModifiedBy>Adel</cp:lastModifiedBy>
  <dcterms:modified xsi:type="dcterms:W3CDTF">2014-05-04T15:52:46Z</dcterms:modified>
  <cp:revision>10</cp:revision>
  <dc:subject/>
  <dc:title>Слайд 1</dc:title>
</cp:coreProperties>
</file>